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1CB17F-6438-4A96-843A-4620FF027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8E76BF-71E6-4548-A9E9-9A1AECA19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533F21-31A4-4B45-86D5-7C020FA57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2773E5-0A58-40C0-A65C-CBFE8B102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81A16-1F0C-48C3-A623-C793ED462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D4442-E277-4E37-A461-E8DA3787D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0AF8D-547B-45A6-84E5-3A1DDFF3F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9A94F-CF79-4264-AD48-4376509EC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E238C-95A8-4D8C-8622-90F10AA8C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E04FF-E720-4541-86AD-8D669E5D1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FA587-1F23-44A8-8A83-CCC1856D1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1E1580-DE40-4C42-B061-3C7FCB0F0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6D9D3-F74E-476D-A53F-CE455A5B0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DDC90-BFC5-44F1-86D9-EDF0E2EF9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D183D-2339-4AF2-BB93-CBE47B9AA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102C9-C324-46A2-A5CB-5DAC3772C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9AE7F-9C53-44D1-A3F6-1B46C9429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8D688E-DC2D-4857-BCE6-14FBF593D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374877-6297-48E4-AE5D-17AC2FE79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CAEEE1-1DE1-47EF-BA06-71FA79981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E40330-E11C-4DE4-B31A-9E03C2243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8D86A8-5F22-4148-A72E-4D1A025C7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144D6F-E222-475B-AA7D-12FE58649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27D94F-34E9-469D-88BD-316F47892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45DCA-BE93-4FE0-91BF-3E38B29217C2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51136-8C80-44EB-BD5E-8370210C0F87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4"/>
          <p:cNvSpPr/>
          <p:nvPr/>
        </p:nvSpPr>
        <p:spPr>
          <a:xfrm>
            <a:off x="-252360" y="1143360"/>
            <a:ext cx="957744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21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7 (778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Оръженосец съм сал, но следвам аз любезния си победител Спас!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Щом Своите борци извика Той,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на страната Му заставам в лютий бой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/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-541440" y="1140120"/>
            <a:ext cx="1008216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Припев: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Чуйте победний вик: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„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Братя, напред!"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Дето ви прати Той, бързайте вред!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[: Оръженосец съм и следвам аз всякога моя победител Спас! :]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2"/>
          <p:cNvSpPr/>
          <p:nvPr/>
        </p:nvSpPr>
        <p:spPr>
          <a:xfrm>
            <a:off x="-541440" y="1139400"/>
            <a:ext cx="1008216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2.Оръженосец съм сал, но не съм скрит, нося Господний меч и шлем, и щит!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Аз тука чакам, дор' ме викне Той;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с отговор готов съм: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 „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Тук съм, Спасе мой!"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/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2"/>
          <p:cNvSpPr/>
          <p:nvPr/>
        </p:nvSpPr>
        <p:spPr>
          <a:xfrm>
            <a:off x="-541440" y="1140120"/>
            <a:ext cx="1008216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Припев: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Чуйте победний вик: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„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Братя, напред!"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Дето ви прати Той, бързайте вред!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[: Оръженосец съм и следвам аз всякога моя победител Спас! :]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-252360" y="1750320"/>
            <a:ext cx="957744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3. Оръженосец съм сал, но виждам аз награда, що ми готви моят Спас! Щом издържа аз със търпение, славно чака ме възнаграждение!</a:t>
            </a:r>
            <a:r>
              <a:rPr b="0" lang="bg-BG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/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2"/>
          <p:cNvSpPr/>
          <p:nvPr/>
        </p:nvSpPr>
        <p:spPr>
          <a:xfrm>
            <a:off x="-541440" y="1140120"/>
            <a:ext cx="1008216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Припев: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Чуйте победний вик: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„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Братя, напред!"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Дето ви прати Той, бързайте вред!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[: Оръженосец съм и следвам аз всякога моя победител Спас! :]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7T20:03:35Z</dcterms:created>
  <dc:creator>123</dc:creator>
  <dc:description/>
  <dc:language>en-US</dc:language>
  <cp:lastModifiedBy>SDA</cp:lastModifiedBy>
  <dcterms:modified xsi:type="dcterms:W3CDTF">2010-05-01T15:30:49Z</dcterms:modified>
  <cp:revision>153</cp:revision>
  <dc:subject/>
  <dc:title>Slide 1</dc:title>
</cp:coreProperties>
</file>